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DF5-92C5-4CB2-A4A9-21F6CFFD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6ED-7607-47DB-9176-CCCA3194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439-342D-473D-9B54-3244E74F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B1A-3068-4DC7-BB9B-DE9C64FD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3BB5-C631-40F1-B028-A61F38A8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BB99-5950-409C-B88F-9198E17C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9679-BB4A-4A19-B7B0-E2C9CC62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5510-EE85-424B-B3AB-C06C239B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38B3-29F6-403F-AD26-B9B419E3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88C1-6A98-47B5-86EF-FEF8A753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26FB-B804-467A-BC43-0D8A31EE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926-62E5-4E4F-8181-B17AE03C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D39E-2C32-497D-B1E6-5FC4F54A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74EF-4223-4571-ADBA-90B028AD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BAC8-BB2F-4F88-A5AF-A3846548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7077-9F7D-4210-B737-7506C39C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2C90-1F62-4330-8EEB-0D347A3C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C39-9C3A-4CBD-8E56-40592C5A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279-85A7-4B94-AC57-C4F40C02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990-703F-432E-BCEA-D4B65AED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22A-F994-445C-9A44-B3CC7266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09C-4C6E-40D2-BE5B-74AE4BF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DD5-3F32-48E4-AD7F-C5111C22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F9C-D118-4F7D-B844-8326A80A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D900-9645-4EC5-93A4-5F702184046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C444-1E0D-4983-8B81-23FAC31A97A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送比较、逻辑运算类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传送比较、逻辑运算类指令的编程方法和应用技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6400" y="1627920"/>
            <a:ext cx="121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字逻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运算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4716360" cy="3394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1360" y="4657680"/>
            <a:ext cx="8972640" cy="2200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73840" y="306720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种字逻辑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的运用情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46400" y="1340640"/>
            <a:ext cx="243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功能指令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启－保－停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3560" r="0" b="1771"/>
          <a:stretch/>
        </p:blipFill>
        <p:spPr>
          <a:xfrm>
            <a:off x="4486320" y="836640"/>
            <a:ext cx="4657680" cy="6021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0" t="0" r="53173" b="15238"/>
          <a:stretch/>
        </p:blipFill>
        <p:spPr>
          <a:xfrm>
            <a:off x="755640" y="3068640"/>
            <a:ext cx="36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992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3228480"/>
            <a:ext cx="7200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传送比较、逻辑运算等指令的综合编程方法和应用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一步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开发过程中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91400" y="3283560"/>
            <a:ext cx="170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单按钮启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硬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70360" y="123840"/>
            <a:ext cx="5273640" cy="67341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0" y="390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2328"/>
          <a:stretch/>
        </p:blipFill>
        <p:spPr>
          <a:xfrm>
            <a:off x="0" y="77760"/>
            <a:ext cx="6516720" cy="4803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0" t="47678" r="0" b="0"/>
          <a:stretch/>
        </p:blipFill>
        <p:spPr>
          <a:xfrm>
            <a:off x="3059280" y="1935000"/>
            <a:ext cx="6084720" cy="492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96000" y="40464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七  传送比较、逻辑运算类指令及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22936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单按钮启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硬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59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12960" y="1683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边学边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06d10a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384360" cy="981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03640" y="3716280"/>
            <a:ext cx="2184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191664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填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5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将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数据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858960" y="333360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640" y="419328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计数脉冲和复位信号分别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供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将计数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当前值转换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码后送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设计出梯形图程序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计数值应限制在什么范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用定时器中断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成的位元件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4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设计主程序和中断子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4676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56520" y="2132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6432480" cy="1936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4059360" cy="2613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72480" y="5358600"/>
            <a:ext cx="20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-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较指令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05480" y="2132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94200" y="2276640"/>
            <a:ext cx="6049800" cy="1777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0160" y="4064040"/>
            <a:ext cx="4032360" cy="275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813640" y="5157000"/>
            <a:ext cx="23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-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区间比较指令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9240" y="2014200"/>
            <a:ext cx="170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6" descr=""/>
          <p:cNvPicPr/>
          <p:nvPr/>
        </p:nvPicPr>
        <p:blipFill>
          <a:blip r:embed="rId1"/>
          <a:srcRect l="896" t="4481" r="1392" b="4822"/>
          <a:stretch/>
        </p:blipFill>
        <p:spPr>
          <a:xfrm>
            <a:off x="3132000" y="2133720"/>
            <a:ext cx="6012000" cy="122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3311640" cy="614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41760" y="4345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移位传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4365720"/>
            <a:ext cx="6092640" cy="1346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268360" y="5805360"/>
            <a:ext cx="4608720" cy="72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4040" y="58759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652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取反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6033960" cy="1325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45680" y="59490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124000" y="3645000"/>
            <a:ext cx="3527640" cy="674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44640" y="44359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块传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771640" y="4437000"/>
            <a:ext cx="622944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124000" y="5992920"/>
            <a:ext cx="41626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2088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多点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591984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3529080" cy="628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05480" y="4364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交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592164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340000" y="5805360"/>
            <a:ext cx="352728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45680" y="58759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400" y="2059560"/>
            <a:ext cx="1576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5977080" cy="132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340000" y="3573360"/>
            <a:ext cx="3166920" cy="6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30360" y="4219920"/>
            <a:ext cx="1904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二进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rcRect l="0" t="0" r="0" b="4227"/>
          <a:stretch/>
        </p:blipFill>
        <p:spPr>
          <a:xfrm>
            <a:off x="2830680" y="4365720"/>
            <a:ext cx="5933880" cy="1274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268360" y="5805360"/>
            <a:ext cx="3167280" cy="50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18760" y="5804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02280" y="1556280"/>
            <a:ext cx="26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加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指令与减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9880" y="2203920"/>
            <a:ext cx="15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9880" y="3643920"/>
            <a:ext cx="15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4075" r="0" b="2564"/>
          <a:stretch/>
        </p:blipFill>
        <p:spPr>
          <a:xfrm>
            <a:off x="2340000" y="2276640"/>
            <a:ext cx="6048360" cy="1288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11280" y="3716280"/>
            <a:ext cx="5954760" cy="1314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348000" y="5157720"/>
            <a:ext cx="3456000" cy="1563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22040" y="566028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39880" y="1556280"/>
            <a:ext cx="4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字逻辑运算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22287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逻辑运算指令包括字逻辑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、字逻辑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、字逻辑异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和求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6912000" cy="1511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2316" r="0" b="2779"/>
          <a:stretch/>
        </p:blipFill>
        <p:spPr>
          <a:xfrm>
            <a:off x="1476360" y="5013360"/>
            <a:ext cx="6889680" cy="1488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42400" y="3788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8T10:14:12Z</dcterms:modified>
  <cp:revision>114</cp:revision>
  <dc:subject/>
  <dc:title>模块二  S7-200系列PLC的基本结构 </dc:title>
</cp:coreProperties>
</file>